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5C4-47D2-4819-A819-19911C9C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90A-54F1-4200-9A0A-ADA1B25D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FEC-3E68-4183-BA33-A9D011B9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F50-1F7C-4B2B-A71F-3FE79334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55E-F37F-47C6-82A0-91B4F82D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1EF-C1A4-4CAF-9849-CC06DED6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241-324E-4ABF-8B30-FD8AF04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C98-244B-4657-9244-65174FA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44A-AB06-4CA3-B079-0266CAD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02E-F8F9-4583-9B0F-84DA588B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DD2-CC7F-400D-9340-EB840CB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031-04C0-4150-9D83-675B72AA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88D2FA-BBFF-40B8-AFCC-A847FB0B213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041C95-A162-41C7-8D1B-0BFDB1BBC908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8EFD6A-4C9F-45F0-BE7E-2D7F100325A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4C3291-000F-4386-B290-CF1E96CE74F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0C17B2-5DEA-4D3C-A9F3-5E9C588BA6B6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48996A-1325-4430-90B9-0AB0ADAB662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C9443F-F4F3-4623-A9A5-96B6CA10814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684A45-058E-460E-8775-1F85AEC7C46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35273E-5F1B-43B1-89C6-B0586D289E5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DD0EA5-BCF4-40AF-8DB6-D3B45FDEA09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EE39CE-4E40-4B3B-89B0-27910BFFDBE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C5CF8-BF72-492B-A5F2-C7BF3B4833D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B03AD2-B835-49E3-9A58-BFEAAED95AE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6FD7FF-42B6-424E-A847-BB2B9567F3F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evidencia.gov.br/a-previdencia/orgaos-colegiados/conselho-nacional-de-previdencia-social-cnps/" TargetMode="External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MINISTÉRIO DA FAZ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55640" y="2349360"/>
            <a:ext cx="7775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Conselho Nacional de Previdência – CNP; e Conselho de Previdência Social - C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10 de Novembro de 20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GRANDES NÚMEROS DO INSS </a:t>
            </a:r>
            <a:br>
              <a:rPr sz="4400"/>
            </a:b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(Posição em setembro de 201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3,6 milhões de benefícios em manutenção (Benefícios do RGPS, Assistenciais e Benefícios Indenizatórios da Uniã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705 mil novos requerimentos, em média, por mês em 2016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4,0 milhões de ligações recebidas nas centrais 135/mê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537 mil perícias realizada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,9 milhões de atendimentos presenciais nas AP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6,7 mil servidores ativos (inclusive os cedidos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REDE DE ATENDIMENTO DO INS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25018" t="19545" r="40728" b="37757"/>
          <a:stretch/>
        </p:blipFill>
        <p:spPr>
          <a:xfrm>
            <a:off x="1332000" y="2133720"/>
            <a:ext cx="2890800" cy="202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Presente em </a:t>
            </a: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605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Municípios (APS Fix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504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Convencion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Barc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cordos Internaciona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3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de Teleatendi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86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tendimento de Demandas Judici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90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Cidades (convênios com prefeitu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" descr="C:\Users\CIBELE~1.CAS\AppData\Local\Temp\PREVBarco.jpg"/>
          <p:cNvPicPr/>
          <p:nvPr/>
        </p:nvPicPr>
        <p:blipFill>
          <a:blip r:embed="rId2"/>
          <a:stretch/>
        </p:blipFill>
        <p:spPr>
          <a:xfrm>
            <a:off x="1355760" y="4221000"/>
            <a:ext cx="2811600" cy="18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79" name="Retângulo 8"/>
          <p:cNvGrpSpPr/>
          <p:nvPr/>
        </p:nvGrpSpPr>
        <p:grpSpPr>
          <a:xfrm>
            <a:off x="5273640" y="5211720"/>
            <a:ext cx="3297240" cy="573120"/>
            <a:chOff x="5273640" y="5211720"/>
            <a:chExt cx="3297240" cy="573120"/>
          </a:xfrm>
        </p:grpSpPr>
        <p:pic>
          <p:nvPicPr>
            <p:cNvPr id="580" name="Retângulo 8" descr=""/>
            <p:cNvPicPr/>
            <p:nvPr/>
          </p:nvPicPr>
          <p:blipFill>
            <a:blip r:embed="rId3"/>
            <a:stretch/>
          </p:blipFill>
          <p:spPr>
            <a:xfrm>
              <a:off x="5273640" y="5211720"/>
              <a:ext cx="32972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5292720" y="5232240"/>
              <a:ext cx="32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 algn="ctr"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pt-BR" sz="1600" spc="-1" strike="noStrike">
                  <a:solidFill>
                    <a:srgbClr val="404040"/>
                  </a:solidFill>
                  <a:latin typeface="Arial"/>
                </a:rPr>
                <a:t>1.694 unidades de atendimento em funcionam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PRINCIPAIS TEMAS EM 20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2204640"/>
            <a:ext cx="8507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da Legislação Previdenc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Acidentário de Prevenção – F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isão dos Benefícios por Incapa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ertura Previdenciária – PNAD/20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dito Consign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acto de Acidente de Trânsito na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abela 1" descr=""/>
          <p:cNvPicPr/>
          <p:nvPr/>
        </p:nvPicPr>
        <p:blipFill>
          <a:blip r:embed="rId1"/>
          <a:stretch/>
        </p:blipFill>
        <p:spPr>
          <a:xfrm>
            <a:off x="324000" y="804960"/>
            <a:ext cx="8429400" cy="61815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78920" y="5661000"/>
            <a:ext cx="1584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róxima</a:t>
            </a:r>
            <a:br>
              <a:rPr sz="2000"/>
            </a:b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Reun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NSELHO DE PREVIDÊNCIA SOCIAL -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ítulo 1"/>
          <p:cNvSpPr/>
          <p:nvPr/>
        </p:nvSpPr>
        <p:spPr>
          <a:xfrm>
            <a:off x="519120" y="342900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Previsto para funcionar nas sedes das Gerências-Executivas do IN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O que são os Conselhos de Previdência Social - C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foram criados os CPS’s, unidades descentralizadas do Conselho Nacional de Previdência – CNP, vinculadas ou funcionando junto às Gerências-Executivas do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25440" y="3213000"/>
            <a:ext cx="8569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336600" y="4530600"/>
            <a:ext cx="8569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PS’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6"/>
          <p:cNvSpPr/>
          <p:nvPr/>
        </p:nvSpPr>
        <p:spPr>
          <a:xfrm>
            <a:off x="108000" y="4797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ângulo de cantos arredondados 2"/>
          <p:cNvSpPr/>
          <p:nvPr/>
        </p:nvSpPr>
        <p:spPr>
          <a:xfrm>
            <a:off x="3635280" y="1273320"/>
            <a:ext cx="133056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ângulo de cantos arredondados 8"/>
          <p:cNvSpPr/>
          <p:nvPr/>
        </p:nvSpPr>
        <p:spPr>
          <a:xfrm>
            <a:off x="147636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4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tângulo de cantos arredondados 10"/>
          <p:cNvSpPr/>
          <p:nvPr/>
        </p:nvSpPr>
        <p:spPr>
          <a:xfrm>
            <a:off x="452448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CIE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6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tângulo de cantos arredondados 11"/>
          <p:cNvSpPr/>
          <p:nvPr/>
        </p:nvSpPr>
        <p:spPr>
          <a:xfrm>
            <a:off x="539640" y="3429000"/>
            <a:ext cx="324036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POSENTADOS/PENS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tângulo de cantos arredondados 12"/>
          <p:cNvSpPr/>
          <p:nvPr/>
        </p:nvSpPr>
        <p:spPr>
          <a:xfrm>
            <a:off x="392436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RABALH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tângulo de cantos arredondados 13"/>
          <p:cNvSpPr/>
          <p:nvPr/>
        </p:nvSpPr>
        <p:spPr>
          <a:xfrm>
            <a:off x="651672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MPREG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Conector reto 14"/>
          <p:cNvSpPr/>
          <p:nvPr/>
        </p:nvSpPr>
        <p:spPr>
          <a:xfrm>
            <a:off x="4300560" y="1882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Conector reto 16"/>
          <p:cNvSpPr/>
          <p:nvPr/>
        </p:nvSpPr>
        <p:spPr>
          <a:xfrm flipH="1">
            <a:off x="2734920" y="2060640"/>
            <a:ext cx="29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2" name="Conector de seta reta 19"/>
          <p:cNvCxnSpPr/>
          <p:nvPr/>
        </p:nvCxnSpPr>
        <p:spPr>
          <a:xfrm>
            <a:off x="572400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Conector de seta reta 21"/>
          <p:cNvCxnSpPr>
            <a:endCxn id="595" idx="0"/>
          </p:cNvCxnSpPr>
          <p:nvPr/>
        </p:nvCxnSpPr>
        <p:spPr>
          <a:xfrm flipH="1">
            <a:off x="273456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4" name="Conector reto 23"/>
          <p:cNvSpPr/>
          <p:nvPr/>
        </p:nvSpPr>
        <p:spPr>
          <a:xfrm>
            <a:off x="5651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Conector reto 25"/>
          <p:cNvSpPr/>
          <p:nvPr/>
        </p:nvSpPr>
        <p:spPr>
          <a:xfrm flipH="1">
            <a:off x="248400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6" name="Conector de seta reta 27"/>
          <p:cNvCxnSpPr/>
          <p:nvPr/>
        </p:nvCxnSpPr>
        <p:spPr>
          <a:xfrm>
            <a:off x="2484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ector de seta reta 30"/>
          <p:cNvCxnSpPr/>
          <p:nvPr/>
        </p:nvCxnSpPr>
        <p:spPr>
          <a:xfrm>
            <a:off x="781164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8" name="Conector de seta reta 4096"/>
          <p:cNvCxnSpPr>
            <a:endCxn id="598" idx="0"/>
          </p:cNvCxnSpPr>
          <p:nvPr/>
        </p:nvCxnSpPr>
        <p:spPr>
          <a:xfrm>
            <a:off x="5148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5"/>
          <p:cNvSpPr/>
          <p:nvPr/>
        </p:nvSpPr>
        <p:spPr>
          <a:xfrm>
            <a:off x="581040" y="1341360"/>
            <a:ext cx="7993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DIVULGAÇÃO DAS INFORMAÇÕES RELATIVAS AO CNPS E AOS CPS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Imagem 1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10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tângulo 1"/>
          <p:cNvSpPr/>
          <p:nvPr/>
        </p:nvSpPr>
        <p:spPr>
          <a:xfrm>
            <a:off x="684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CONSELHO NACIONAL DE PREVID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tângulo 2"/>
          <p:cNvSpPr/>
          <p:nvPr/>
        </p:nvSpPr>
        <p:spPr>
          <a:xfrm>
            <a:off x="557280" y="2585880"/>
            <a:ext cx="806436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revidência – CN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é um órgão superior de deliberação colegiada, instituído pela Lei nº 8.213, de 24 de julho de 1991, e te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principal objetivo estabelecer o caráter democrático e descentralizado da administração, em cumprimento ao disposto no art. 194 da Constituição, com a redação dada pela Emenda Constitucional nº 20, qu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oniza uma gestão quadriparti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particip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ve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adores em ativ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g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sen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MAI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INFORMAÇÕES SOBRE O CNPS E SOBRE OS CPS’s PODEM SER ENCONTRADAS N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http://www.previdencia.gov.br/a-previdencia/orgaos-colegiados/conselho-nacional-de-previdencia-social-cnp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179280" y="820800"/>
          <a:ext cx="8785440" cy="5821200"/>
        </p:xfrm>
        <a:graphic>
          <a:graphicData uri="http://schemas.openxmlformats.org/drawingml/2006/table">
            <a:tbl>
              <a:tblPr/>
              <a:tblGrid>
                <a:gridCol w="1278000"/>
                <a:gridCol w="4292640"/>
                <a:gridCol w="3214800"/>
              </a:tblGrid>
              <a:tr h="646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, Bauru, Campinas, Jundiaí, Marília, Piracicaba, Ribeirão Preto, Santo André, Santos, São José dos Campos, São José do Rio Preto, São Paulo, Sorocaba, Taubat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, Guarulhos, Osasco, Presidente Prudente, São Bernardo do Campo, São João da Boa V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8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, Campos dos Goytacazes, Contagem, Diamantina, Governador Valadares, Montes Claros, Niterói, Ouro Preto, Petrópolis, Rio de Janeiro, Teófilo Otoni, Varginha, Vitór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, Divinópolis, Duque de Caxias, Juiz de Fora, Poços de Caldas, Uberaba, Uberlândia, Volta Redon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7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, Garanhuns, Itabuna,  João Pessoa, Juazeiro, Juazeiro do Norte, Maceió, Natal, Petrolina, Salvador, Santo Antônio de Jes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, Barreiras, Caruaru, Feira de Santana, Fortaleza, Imperatriz, Mossoró,  Recife, São Luís, Sobral, Teresina, Vitória da Conqu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31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, Distrito Federal, Dourados, Goiânia, Macapá, Mana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, Belém, Boa Vista, Cuiabá, Palmas, Porto Velho, Rio Branco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72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1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COMPOSIÇÃO DO CONSELHO NACIONAL DE PREVIDÊ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tângulo 2"/>
          <p:cNvSpPr/>
          <p:nvPr/>
        </p:nvSpPr>
        <p:spPr>
          <a:xfrm>
            <a:off x="250920" y="2492280"/>
            <a:ext cx="86421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onselheiro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o gover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a sociedade civil, send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trabalhado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aposentados e pensionista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empregador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Arial Unicode MS"/>
              </a:rPr>
              <a:t>REPRESENTANTES</a:t>
            </a: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 DO GOVERNO FEDERAL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nrique de Campos Meirelles – Presidente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r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dito Adalberto Brunca</a:t>
            </a:r>
            <a:r>
              <a:rPr b="0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Secretário Executivo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s de Previdência Social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onardo de Melo Gadelh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Presidente do Instituto Nacional do Seguro Social - IN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elo Abi-Ramia Caetan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 de Previdência Complementar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eferson Luis Bittencou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rildo Saldanha de Olivei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o Planejamento, Orçamento e Gestão - 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uardo Refinetti Guar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Executivo do 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anuel de Araújo Dan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o Departamento do Regime Geral de Previdênci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binson Flávio Dias Neme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e Benefícios do Instituto Nacional do Seguro Social - INS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niel Belmiro Fo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aria da Receita Federal do Brasil – SRF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io Guimarães Figueire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gério Nagamine Costanz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Instituto de Pesquisa Econômica Aplicada - IP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TRABALHADORES EM ATIVIDA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onio Cortez Mor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rça Sindical -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ntino Marques Se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Única dos Trabalhadores –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ndro José Mor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47960" y="1989000"/>
            <a:ext cx="42447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guel Salaberry Fi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União Geral dos Trabalhadores - 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oão Junior Onuki A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Pescadores e Aquicultores - C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scoal Carn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Trabalhadores e Trabalhadoras do Brasil - C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EMPREGADO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fael Ernesto Kieckbu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 Indústria - C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ônio Lisboa Card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Comércio - C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rigo Hugueney do Amaral M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da Agricultura e Pecuária do Brasil – 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lter Tadeu Pinto de F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s Instituições Financeiras - 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rgio Aureliano Machado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e Municípios - C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abriela Mal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Transporte - C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APOSENTADOS E PENSIONIST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rson Maia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Trabalhadores Aposentados e Pensionistas e Idosos – SINTAPI/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s Barroso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rea Angerami 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Aposentados e Pensionistas da Força Sindical – SINDN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989000"/>
            <a:ext cx="43876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cio Antonio Bellenta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Sindicatos Brasileiros - 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ildo Arquiminio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racia Viviane Rodrigues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tendimento ao art. 194, parágrafo único, VIII da CF, o Conselho visa à organização da Previdência Social, garantindo o  caráter democrático e descentralizado da administração, mediante gestão quadripartite, com a participação do Governo, dos trabalhadores em atividade, dos empregadores e dos aposen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política de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gestão do sistema previdenc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planos e program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bjetivos, metas, prazos e mecanismos de controle para avaliação da execução desses programas, no âmbito da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a proposta orçamentária da Previdência Social antes de sua consolid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a aplicação da legislação pertinente à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6-11-09T19:23:49Z</cp:lastPrinted>
  <dcterms:modified xsi:type="dcterms:W3CDTF">2016-11-17T22:16:20Z</dcterms:modified>
  <cp:revision>277</cp:revision>
  <dc:subject/>
  <dc:title>Slide 1</dc:title>
</cp:coreProperties>
</file>